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0B2-43EB-4C40-90AA-C606BC9B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892-E5F3-4E04-8A03-B1F21B23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666-4197-42AF-B94A-6474945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F01-41DD-4CE5-BAEA-97E7D3F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CAE-0335-463D-AA7A-2D6582DB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023-F722-467C-93E4-3BC540D7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42E-0DE7-4FF8-9A3A-5379C11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9D6-776C-40CE-8767-8E944DA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389-0AD5-457C-930D-E49BA72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4AA-EFF6-467C-A791-C28F131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B41-77E6-432F-962A-0385FCE4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743-D57D-4855-A90A-9E0F390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5EF-6C85-4EB4-8A20-A6B084247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553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Haiku </a:t>
            </a:r>
            <a:br>
              <a:rPr sz="8000"/>
            </a:b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088978"/>
          <p:cNvPicPr/>
          <p:nvPr/>
        </p:nvPicPr>
        <p:blipFill>
          <a:blip r:embed="rId1"/>
          <a:stretch/>
        </p:blipFill>
        <p:spPr>
          <a:xfrm>
            <a:off x="3200400" y="3124080"/>
            <a:ext cx="25970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n the following slides are pictures of seas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ow it is your turn to write some Haiku poe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n your journal, write a Haiku poem for each sc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hunderstorm%20orange%20thunderhead%20GOOD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542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nature%20(12)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Nature%2015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531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ep%204%20Rockwood%20nature%20IV"/>
          <p:cNvPicPr/>
          <p:nvPr/>
        </p:nvPicPr>
        <p:blipFill>
          <a:blip r:embed="rId1"/>
          <a:stretch/>
        </p:blipFill>
        <p:spPr>
          <a:xfrm>
            <a:off x="1371600" y="838080"/>
            <a:ext cx="6591240" cy="494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FallTrees_wl"/>
          <p:cNvPicPr/>
          <p:nvPr/>
        </p:nvPicPr>
        <p:blipFill>
          <a:blip r:embed="rId1"/>
          <a:stretch/>
        </p:blipFill>
        <p:spPr>
          <a:xfrm>
            <a:off x="685800" y="533520"/>
            <a:ext cx="7802640" cy="585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Haiku, but has 5,7,5,7,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a tries to evoke emotion, and is usually about heartache 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own about the following sl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s2.mm.bing.net/images/thumbnail.aspx?q=1291517636041&amp;id=5bfe486181105b52d8e96c4e3703b5a0&amp;url=http%3a%2f%2fwww.lovepicturesoflove.net%2flove-picture-tender-pedrosimoes7-love.jpg"/>
          <p:cNvPicPr/>
          <p:nvPr/>
        </p:nvPicPr>
        <p:blipFill>
          <a:blip r:embed="rId1"/>
          <a:stretch/>
        </p:blipFill>
        <p:spPr>
          <a:xfrm>
            <a:off x="1371600" y="20520"/>
            <a:ext cx="61722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31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aiku is also called nature or seasonal haik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nature%20(12)"/>
          <p:cNvPicPr/>
          <p:nvPr/>
        </p:nvPicPr>
        <p:blipFill>
          <a:blip r:embed="rId1"/>
          <a:stretch/>
        </p:blipFill>
        <p:spPr>
          <a:xfrm>
            <a:off x="1676520" y="1981080"/>
            <a:ext cx="6019560" cy="45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Haiku is usually written in the present tense and focuses on nature (seasons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 unrhymed Japanese verse consisting of three unrhymed lines of five, seven, and five syllables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(5, 7, 5)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or 17 syllables in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elpful Hint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iku is generally not written in one long run on sentence. It is generally written in two part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You have a fragment on the first or the last line, then you have the body of the haik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Winter sun--</a:t>
            </a:r>
            <a:br>
              <a:rPr sz="60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a cyclist pedals</a:t>
            </a:r>
            <a:br>
              <a:rPr sz="6000"/>
            </a:br>
            <a:r>
              <a:rPr b="0" i="1" lang="en-US" sz="6000" spc="-1" strike="noStrike">
                <a:solidFill>
                  <a:srgbClr val="9900cc"/>
                </a:solidFill>
                <a:latin typeface="Comic Sans MS"/>
              </a:rPr>
              <a:t>against the wind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Salt-waves caress s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tickling my toes and hear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00cc"/>
                </a:solidFill>
                <a:latin typeface="Arial"/>
              </a:rPr>
              <a:t>in their short-spun wa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Pink cherry blossom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Cast shimmering reflection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On seas of Jap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Haiku 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Warm soup in a bow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letters of the alphabe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cc"/>
                </a:solidFill>
                <a:latin typeface="Comic Sans MS"/>
              </a:rPr>
              <a:t>hang on the teaspoon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5:11:17Z</dcterms:created>
  <dc:creator>Customer</dc:creator>
  <dc:description/>
  <dc:language>en-US</dc:language>
  <cp:lastModifiedBy>Angie McCall</cp:lastModifiedBy>
  <dcterms:modified xsi:type="dcterms:W3CDTF">2011-11-02T17:24:05Z</dcterms:modified>
  <cp:revision>6</cp:revision>
  <dc:subject/>
  <dc:title>Haiku  Poetry</dc:title>
</cp:coreProperties>
</file>